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5B39-DF02-443C-869B-7200DFE4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A13E-C8B3-4501-803D-7410FF36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6ECBB-96BB-420F-899C-0C1BDC82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B810F-2D83-44FB-AC06-EAB0F6DE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974D2-44F6-4123-AFE4-51FB6167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BB7E5-9C8C-41DC-94FA-0D08CF4A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C65C0-EB81-4B75-8498-07E3A2C0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C2EA1-9396-4842-8CD7-B6B3C03C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C69B4-4C19-49A6-A418-B7622083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F4AEC-E9FB-4DAA-BA82-25B1DD89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2DE47-4CCE-44D5-966F-D49BEF64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9E4C7-2EA6-4F52-9F4F-9DA4E548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0863-6432-4FCE-B6AE-37FC9DB0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08D53-18E7-4BFD-89B9-E5348384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590DF-054E-4032-850F-231C19FF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826DD-7EA7-4784-B939-EB1DF06E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9005C-6566-441C-A8EA-B46E63FF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AA14A-858F-413A-82F6-A2C960EF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A79A8-762E-40D5-B3D7-C438C2C8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FDBEC-0DFA-4F65-B6A3-78C30D61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38AD5-85DF-4835-839E-75774741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1045B-AA83-4F1D-8766-61D2E733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52B70-332C-457D-9330-0E3E8BCF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8BE7-E851-4F72-BAAD-55605BF0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FB5AF-D4A8-4A39-90BA-D5AE4A5F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295D4-E35F-4A20-89C1-C08F64B1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1EFDB-44C7-4882-A3EC-C3EAA382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56BF2-F24E-49C1-8A35-E0630E05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B8AAA-F617-49C1-BB6C-01CD40C5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89B80-EF66-47B2-83BA-AD28DDEE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A44DA-5378-4536-8E71-0978770D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17DAD-2C3C-410B-95DC-683EA019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66C4D-389C-4453-B165-90CF662C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2A7DF-0BE1-41B7-8583-7B604191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2C0D-F696-4ED9-AF96-A8249E82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F4F9E-3595-47F0-AE1F-A4A126F2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32306-0BC2-4611-A129-3C015032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7B24C-252C-43DD-94FE-4CAF4B4D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71D1A-A957-4ADB-81DB-E0B01F76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849A9-EC9E-4CBE-847A-9DE2ED6C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5938F-B6EB-43E1-9AE6-31C1F4EE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EF16C-7A1E-4F0C-8553-A3552624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04891-7812-4F11-8117-46F80F5B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8096C-DA6D-4419-817A-4061C03C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95AA0-8A70-4AFC-90EC-C025C977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BE2E-A563-4572-B217-616D196E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5564B-F41D-4B4A-B904-5AAE2340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A447D-14C4-4FDF-8BB5-7944D734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BA93D-960A-413D-A7FE-B9EC465E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5935B-41F9-42E3-B432-33A75B14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BAD5B-D1B6-4B85-A6FA-308DCEB1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7FCA5-3730-4DD6-A2D0-1D5167EA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0CFBFE-A8B0-4C32-BE54-DDF20FF5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AA7E7F-EFAF-49B8-855A-535297C7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CA01A3-379E-40AD-BA73-5CD75C56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38EE48-20A8-4CF5-AC4B-98247567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940E-0741-45FC-87E9-04A6FAF1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D54194-7783-4D03-8467-C71B5781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543845-5800-4365-88F7-F4B017C2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37ABC9-F8B6-4D1A-A501-884FEB59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235FCA-2659-4A4F-8740-E6C33716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40236A-4017-42E3-8A25-A9C03815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3EDD2E-60A1-4D82-B629-9F8AB06E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7684FA-4B56-4517-BE71-BAA28004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4F644B-D6F0-42FE-B7FD-0471A764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14AE7D-D9F8-4D21-8B1C-4516110D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1F6ECC-8DBB-4103-8645-CC95CA36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142D-9349-4B23-9BAC-8E6FC2C9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010FCF-CCEA-4E15-8491-A1448A52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5BFDE2-CCE9-491B-A9AE-281D4E4F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92CEA7-544C-4B60-ADDB-5BB1715A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2A718E-5BC8-4B60-B111-10AF0ECD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0212BE-7D4C-404D-8863-87F8492E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F4B3D0-1A24-476D-B021-232B7CF3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47C41E-D311-4EEE-9FE8-32D9D700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FE2ACC-C0BC-44AD-B49F-3A6FCD49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7616EC-5C8C-4071-B40C-455D4030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DEB178-63AD-4F17-A7CD-BFD53269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D09F-422C-4719-9E0A-6C0488F2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C44C28-C0F0-49E0-8163-F77B3108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3CACE6-D120-4BF5-896F-68F02D3A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282A28-ED4A-48B8-AF0D-D1351525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0B7A33-C93D-49F8-80BF-60216A6A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713D10-5594-425B-AB0D-B8FBD7BA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298EE2-9928-47D2-A2AC-DFC22C7D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D6B40A-CF45-484F-AF6B-461E22C4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48C085-6FD0-40D1-8027-0711E0F3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5C4F64-0658-4B27-97E0-F8E19FDE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C7CC8A-869E-4318-B57B-767DBD57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F1B1-711D-4B8B-9FE4-00A73E2B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2400B7-6CCD-499E-A3E9-DCBC6A12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96958F-1F36-41A9-911C-A4FCB02E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49F963-B6CE-4FAF-9E58-CC1298E8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26C2A4-FDE3-4C43-B993-51730F90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D35040-1E8B-4F6C-B530-F692BB6E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887496-B8DD-4E26-B1A3-7FB7ED62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E5AC87-7A89-4A9E-8126-E94F295B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149582-3964-4ACD-A20A-36AEE594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C5D948-C21B-4815-AAF1-53877ED1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EA486C-B12F-4E12-B709-7DD1DF55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BDF6-2D21-487E-BA20-D138627F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38E3EB-C5A7-4A8A-951B-F1077BD7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3C30B0-C372-4267-AABB-EE2120A4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5A8F96-43B0-4E5A-B77F-41033BEB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02E647-F0A7-478D-B661-1D599535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BA93AA-4D7A-46BC-A585-E933A581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2168CF-BE8F-4615-BBBB-C4CEAD16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8006F1-4EB9-43D5-8F3E-D1C2274F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8F1195-5497-43A7-AEB5-B22309B5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D550E8-F713-4C7C-B7DF-D8DD5A39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C6F68B-CA2E-42D9-A53A-27A3834B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9FC6-5F22-4A70-943F-891B3B8A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33B4-B4A3-4CB9-8D12-5D08F2B8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7E2FB3-87B7-416E-AC7E-0AFC25A9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31CA86-3E4B-464B-97CA-83D275A0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8359F3-A6EB-4C55-A3B8-7D17A4D7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2F96C9-EECC-4FD8-9072-5D69F447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39DD82-368B-41A5-B90B-873BBC86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23004E-19F0-48E9-B1E9-C8860989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98F11E-F39B-44D1-A28D-25F04CC2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9F83E9-0548-45EE-A894-F18EBB36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FA2609-F5E4-46FD-A1B7-B1338744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22D243-2FE9-408F-B787-62B32209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DA27-0AFE-4661-8151-667A8D88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EA1D4F-2CFC-406E-A07F-76F28E77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EF6797-865B-4F27-B9B2-F731259B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503929-9A6A-4C2A-81AD-F62A0A5A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2CBBBB-B918-4A5D-B969-D44CAA6A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B474CE-6AC6-4B12-9CE6-BDE167C4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99E2E7-2749-4CCC-ABF6-132A910E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9E23E1-6ACB-40B6-8224-3730B3DB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789168-A2E9-4352-909E-98D95EF7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5B4C3D-C55E-4799-929C-3D9FE74D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5DD3B2-8942-4F1D-895C-BF29819E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186D-C346-47FE-ABF8-EB12966D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32355A-6D4C-443B-8BFC-2E1C8192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34AC2F-D7DD-4B7A-AAB7-61FB885B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870A27-CA0B-4D63-936E-14FC278A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D3E5DF-CBB0-47C7-9206-C46DEF0B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BE9ECC-4D16-47AE-94F9-A8F05328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ED4136-3353-4806-812D-3776C00E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70697D-24F0-4ED2-B20A-DA1FE4EC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FC97B4-95AF-42EC-9472-CC1B63AD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384ADC-B56E-467E-8E77-0472AE71B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0BFCEC-1248-4882-A1B9-5617DE12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2E85-6515-46D1-AB3B-8E0D38C5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C49051-F24D-4EA5-8EE6-193B9F92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72B90A-7061-4CD7-B8BA-5A069740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377684-20B5-483B-9A31-F709827E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4BA789-DE87-4C56-8F45-C8E55F9E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92AA57-5176-49BB-B2BB-9531F2E0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29314C-C634-4C2C-933D-4A82AC19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129552-EB06-406B-8D09-F5962A92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FEC67E-B5BF-4CCD-A648-6983FBB8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FC3C88-F1E1-48F6-98CD-119D3EBB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C69BC0-BA41-4844-B2AF-5AA2BB8C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51A6-2BFD-4B9F-986B-5FDEFAAC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7F64A4-C771-40A9-833E-529BACDB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C4E591-0C43-4E8C-AED4-A74C01BA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CEE273-4C77-444E-A3CA-5C06F9CF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CE27D2-4CB5-41B0-AD5B-76FB826E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5CB81A-3915-4712-969D-2C4F3D6F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6B34EC-D820-4FB7-8141-4DE80ED8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AFCF0E-75F0-42C5-BF55-0BC5DE3F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AF6D05-3E44-4693-836D-3667289C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8BE868-A2C0-42FA-B3A9-D2EC1AB7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71C2B7-8193-4188-A6B8-3FEF4E32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2D7DC-4465-4EDA-ABB1-EAB0CB27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1D4EA4-6327-4BE1-904D-12BDB47F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2B5314-A0BF-4CB1-B04F-68561D28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D53857-415D-47C2-86EB-203B00A8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2A24C-61CD-4F64-A820-09C0378C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2998B-81C0-42AC-96F1-8093FD04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06F16-EAB3-4BA7-9D09-EBFE6324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20A60-DF62-4D95-9FC2-ED0068FF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7EFB-2B06-4733-A3B7-033B7B0C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741CE-FA4D-461B-8909-848F0EFF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F27CB-EE17-49B3-A3E9-3A38681A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50CDD-4C7C-4F86-9BDE-E432CF19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75825-F20E-40E2-8EC1-3AF84FE6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2F681-14A1-48ED-9AB6-10B4C807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4172C-59B1-4511-BEF5-5C61B3E0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B6756-228A-4DA3-A5E9-B37B92FB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AA52C-4B9D-49C8-9472-56C50112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EF83B-FD98-46DC-A57C-45927B5B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2F083-B027-4A28-9D62-48000FF8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447C-1E6A-4EDD-9056-F9F54FE2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3D583-17C5-4FF7-940B-2724EC10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3B50B-04E0-45CA-A9DF-DC802A3E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CBF2B-E8BB-40CF-9CC0-FA1718DD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51FDC-81AD-4C02-928C-34FD253C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75EBC-CFA0-4831-B5FE-4CF236DA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B139D-89DF-447C-A177-1077A1FD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97E4B-491E-44C6-A6EA-99F2F3B5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30C2F-5B94-4233-9A49-8B808ED1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2B419-FDB7-418F-B82E-76DCCDB7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C1669-BEFB-4DF9-B42E-ABBCF31D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4399-EAF5-4455-95F8-19A7A646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E6851-524E-42C3-BBBE-5C20D401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A5FDA-A164-41B1-9AF6-4A218B2F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7961F-9A77-42EF-9707-39162429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7333A-8D87-4310-889E-EC071380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3A694-798A-49F6-A2EF-F7D88385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3FDD8-91F4-4F7B-AC50-0896C1F7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1F1D6-F5A0-4A3F-9947-E44F3F5B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4BE09-941F-44EA-9575-57FAA3C8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0FBDC-3B55-4446-ADEC-BC4BE258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5354E-07BD-4D4D-80FD-D94F6DFB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5999-83A8-47B1-A10A-509FE6FF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F8D3D-F317-4821-B0F1-109FF6E2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95A64-2A1C-4091-98A4-9945B856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A635D-545C-452D-8C0F-9ED7B03D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46F3F-5979-46D9-AD49-13BBABAC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46926-D977-4E37-ACCF-F5CE2CC5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8AC29-E882-449C-82C1-DBF74DCB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487CE-8483-46DE-9752-D913B807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34D9C-B287-4694-B7B0-E614C060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4EF45-0E35-452D-BD81-DCADA6EC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404BD-8DA6-4CE2-A9BB-CB9FE920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1DB5-8A90-4BD9-B3BD-C3997F1D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26056-E073-4427-A9DB-E5291F87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12473-AEB9-48D6-9FD7-6426A553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40982-E652-4A5D-863F-D3056175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C7129-4D4D-4294-BA92-4A3CE9C7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75E6B-0EB8-4BEB-BDBE-D93DD17D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27596-C61D-46EC-9208-0F3085D2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2A818-70AA-40E4-A7A9-30E3B240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4068D-6A6E-4197-B01B-C73A0D6C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74EE1-D0A1-4184-91CF-D46B9008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51240-3E0C-4DE5-A383-5A2CE6B3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3F05-795E-4F69-9783-7B75607F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D1EE4-5314-4C3C-B31D-37C65A76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5E7F0-30F3-4580-95D8-A08A83F1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44285-5256-4F70-8962-253C7D24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5AB2A-250B-48D3-AF3E-434A247E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46BE1-F62D-4E55-8DEC-97E73DC8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5331B-23B1-42AB-AD34-C619167B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59C92-18C5-43AC-997F-DCAC1ECD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745A7-A81D-40C2-95A7-550BE069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D1755-37C1-415D-9FAB-8BC04CD0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2D54F-2E5F-42EC-8375-C03E6BCE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E0C9-C0F5-43B2-9E51-0A25D970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B7262-9951-4493-AF4F-F8AFFD0F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49EFB-A6BA-4E03-9FE5-7CBF96E5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F51A1-E6E5-4480-9CC1-64007A33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1A2C7-F775-4B73-AF52-94C4EF4E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0D10F-931D-4D36-A541-C16B54AF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94798-5B2B-4526-A0FA-11403190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566EB-5E3C-482A-94D4-B43BBA5A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B3B03-A579-49A8-A71F-8A37B7EA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B13AB-01AF-4CBC-9611-46A57F82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420EF-FD47-4CB4-A52D-F0EB4E3B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009F-2AAD-4269-A9A1-50D512AF68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2D9A-4292-41D1-A473-45DB191C86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6459-9A93-4C29-9212-FDCFA0E823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13A1-F435-4495-8C6A-AB54A1EC20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B490-C210-4DC1-AB43-8F3BFB2CAD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671C-9D75-4AB4-9E4F-61E1818092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98A4-31F5-4316-9A66-9FB086ABCE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33A2-9973-474C-86AF-6EA91AC670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A800-C2B6-4A49-83BC-9290B9C5D9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8AB2-5AC9-4905-946A-4C41B79021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B3B1-04E4-4349-B04D-23FA15762F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2F03-AFFC-4D6E-9F06-67BE6FF540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5D21-8ABC-4194-A17B-C319C3F560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D042-AD20-4981-9772-4A62392B3C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E350-892C-42C7-AA9F-86614485B9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F907-B75B-43C4-BB7F-68FF6C1857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5ECF-21DC-4652-8DDC-E0E16ED36F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2805-9E26-455F-90B3-110E512F13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2751-2DD2-4E5B-85F4-CAED57779C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30BC-6233-451F-BC37-14D1ED19B8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BEA3-FF66-4264-B836-4C0A1DCF01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89AC-4A3D-4BB5-8401-12EC2A205C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023C-9037-4DAE-A5D6-941434BF61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2C36-2EA6-4196-8C1B-1CBAE0296E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9772-0875-4A81-A366-F8F51CC24B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4797-16D5-4096-ACEF-2EC9B93315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48DA-ED38-48C7-9D9B-9A61FD4D08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673E-C39D-4C4D-8A09-AEC4DD2382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3697-FC96-43EB-B93F-8B404CFD2B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7EC6-9EA3-4CC4-B233-920BE65E4E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79F1-E199-44F6-9D6F-0D87FCD5FB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2647-332D-44F7-9D1C-8365BEA584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522D-6FAF-46F1-BCB6-C380A0BFD3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5B3D-894A-4112-9A85-017AD2188F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CA49-C5D7-42C3-AD56-69581C0E03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1FAE-2AB8-4474-9CD8-24A0EA90A0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5701-E883-4A5C-8CE3-6F7E3C0F5E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3351-0676-4EC8-946D-F01E18C1CB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0CAF-7676-476C-8C41-CAE745A15F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4AEA-ADCB-4009-AE95-7E6341244D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733840" y="3243240"/>
            <a:ext cx="367632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52280" y="977760"/>
            <a:ext cx="8839440" cy="51152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959200" y="31989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765600" y="31845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25" name="图片 60431" descr=""/>
          <p:cNvPicPr/>
          <p:nvPr/>
        </p:nvPicPr>
        <p:blipFill>
          <a:blip r:embed="rId4"/>
          <a:stretch/>
        </p:blipFill>
        <p:spPr>
          <a:xfrm>
            <a:off x="525600" y="3170160"/>
            <a:ext cx="1628640" cy="3812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250040" y="31845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8056440" y="31701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28" name="图片 60434" descr=""/>
          <p:cNvPicPr/>
          <p:nvPr/>
        </p:nvPicPr>
        <p:blipFill>
          <a:blip r:embed="rId7"/>
          <a:stretch/>
        </p:blipFill>
        <p:spPr>
          <a:xfrm>
            <a:off x="4816440" y="3156120"/>
            <a:ext cx="1628640" cy="3808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1303200" y="3716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3376440" y="37306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5508720" y="37162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7596360" y="37162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1289160" y="41497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3362400" y="41641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5494320" y="4149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7581960" y="41497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395280" y="5041800"/>
            <a:ext cx="2881440" cy="3193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395280" y="5473800"/>
            <a:ext cx="3672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9410" descr=""/>
          <p:cNvPicPr/>
          <p:nvPr/>
        </p:nvPicPr>
        <p:blipFill>
          <a:blip r:embed="rId1"/>
          <a:stretch/>
        </p:blipFill>
        <p:spPr>
          <a:xfrm>
            <a:off x="871560" y="2400480"/>
            <a:ext cx="7400880" cy="20574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4859280" y="3241800"/>
            <a:ext cx="3241800" cy="3189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4859280" y="3645000"/>
            <a:ext cx="32418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8373" descr=""/>
          <p:cNvPicPr/>
          <p:nvPr/>
        </p:nvPicPr>
        <p:blipFill>
          <a:blip r:embed="rId1"/>
          <a:stretch/>
        </p:blipFill>
        <p:spPr>
          <a:xfrm>
            <a:off x="214200" y="1270080"/>
            <a:ext cx="8715600" cy="43909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3168720" cy="3193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900000" y="2421000"/>
            <a:ext cx="3168720" cy="3189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684360" y="4005360"/>
            <a:ext cx="3168360" cy="3189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755640" y="4437000"/>
            <a:ext cx="3168720" cy="3193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6"/>
          <a:stretch/>
        </p:blipFill>
        <p:spPr>
          <a:xfrm>
            <a:off x="826920" y="4869000"/>
            <a:ext cx="3168720" cy="3189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7"/>
          <a:stretch/>
        </p:blipFill>
        <p:spPr>
          <a:xfrm>
            <a:off x="826920" y="5300640"/>
            <a:ext cx="3168720" cy="3189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8"/>
          <a:stretch/>
        </p:blipFill>
        <p:spPr>
          <a:xfrm>
            <a:off x="8317080" y="244944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9"/>
          <a:stretch/>
        </p:blipFill>
        <p:spPr>
          <a:xfrm>
            <a:off x="8317080" y="285264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0"/>
          <a:stretch/>
        </p:blipFill>
        <p:spPr>
          <a:xfrm>
            <a:off x="8317080" y="32130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1"/>
          <a:stretch/>
        </p:blipFill>
        <p:spPr>
          <a:xfrm>
            <a:off x="8317080" y="357336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2"/>
          <a:stretch/>
        </p:blipFill>
        <p:spPr>
          <a:xfrm>
            <a:off x="8317080" y="4005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3"/>
          <a:stretch/>
        </p:blipFill>
        <p:spPr>
          <a:xfrm>
            <a:off x="8317080" y="43657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4"/>
          <a:stretch/>
        </p:blipFill>
        <p:spPr>
          <a:xfrm>
            <a:off x="8317080" y="47242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5"/>
          <a:stretch/>
        </p:blipFill>
        <p:spPr>
          <a:xfrm>
            <a:off x="8317080" y="5099040"/>
            <a:ext cx="3585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16:3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